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295-F878-45DF-92FA-E17DF25B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75A-F465-48F5-99E8-854CA170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FD8-D999-4910-BF42-937C5EF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B53-AC49-4942-8336-4AC7CD9F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C81B5-AC73-4153-8D6C-8FC86DE8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BB905-618E-47A1-B6B7-084537E6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343BD-5F4E-46FD-85E1-2A1C5103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CA7BD-3931-4BA0-9332-322C9EEA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7A64A-0627-48D8-99F8-BFAA7752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14440" y="2661840"/>
            <a:ext cx="5829120" cy="88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6EED8-C398-47D9-A636-9F82CFDD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BD758-F069-4666-B792-0C1DCEF9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641-6101-42BA-8CDC-1A478591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E79E2-FCAC-4E30-8011-C69A1F4D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9B3F0-1BEC-4C76-A6CA-9A34F2D9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CAEA2-C530-479F-A1ED-B5F3C772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24E62-7096-412E-AC96-6FBEE8CB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93E23-DF76-42B5-936E-936C20F0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E4F-0C4A-4D56-A60D-7BD5F63D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555-7F58-4497-8619-26467536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93D-42D1-421A-BB52-F273D71C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661840"/>
            <a:ext cx="5829120" cy="88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80F-CC77-4813-99F6-7CB8108E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432-0491-48DB-84F9-12FB10B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7BB-0EEE-4A3B-AABF-A9FF25D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593-D93A-470E-B43A-9FC2B6A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F0A5-4A67-48C6-91EF-DE6CD96A06E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14200" y="3738600"/>
            <a:ext cx="1800" cy="404640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2201-60C1-4A9C-8DF2-0B906EDBBD9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w-201.kvalitne.cz/" TargetMode="External"/><Relationship Id="rId3" Type="http://schemas.openxmlformats.org/officeDocument/2006/relationships/hyperlink" Target="http://www.mw-201.kvalitne.cz/" TargetMode="External"/><Relationship Id="rId4" Type="http://schemas.openxmlformats.org/officeDocument/2006/relationships/hyperlink" Target="http://www.mw-201.kvalitne.cz/" TargetMode="External"/><Relationship Id="rId5" Type="http://schemas.openxmlformats.org/officeDocument/2006/relationships/hyperlink" Target="http://www.mw-201.kvalitne.cz/" TargetMode="External"/><Relationship Id="rId6" Type="http://schemas.openxmlformats.org/officeDocument/2006/relationships/hyperlink" Target="http://www.mw-201.kvalitne.cz/" TargetMode="External"/><Relationship Id="rId7" Type="http://schemas.openxmlformats.org/officeDocument/2006/relationships/hyperlink" Target="http://www.mw-201.kvalitne.cz/" TargetMode="External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ento</a:t>
            </a:r>
            <a:r>
              <a:rPr b="0" lang="es-B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BO" sz="24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lativně spolehlivě zjistí, v jaké jste psychické pohodě</a:t>
            </a:r>
            <a:r>
              <a:rPr b="0" lang="es-BO" sz="2400" spc="-1" strike="noStrike">
                <a:solidFill>
                  <a:srgbClr val="ffffff"/>
                </a:solidFill>
                <a:latin typeface="Tahoma"/>
              </a:rPr>
              <a:t>: 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8160" y="228600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 následujícím obrázku jsou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dva naprosto stejní delfíni</a:t>
            </a:r>
            <a:r>
              <a:rPr b="1" lang="es-BO" sz="2800" spc="-1" strike="noStrike">
                <a:solidFill>
                  <a:srgbClr val="ff0000"/>
                </a:solidFill>
                <a:latin typeface="Tahoma"/>
              </a:rPr>
              <a:t>. 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hlédněte si je v klidu, ale koncentrovaně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60" y="4800600"/>
            <a:ext cx="6858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Pokud mezi oběma zvířaty vidíte rozdíly</a:t>
            </a:r>
            <a:r>
              <a:rPr b="1" lang="es-BO" sz="2800" spc="-1" strike="noStrike">
                <a:solidFill>
                  <a:srgbClr val="ff0000"/>
                </a:solidFill>
                <a:latin typeface="Tahoma"/>
              </a:rPr>
              <a:t>,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yť jen v barvě,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ikosti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hybu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bo jiné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 důležité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KAMŽITĚ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pustit pracoviště a odpočinout si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800"/>
            </a:br>
            <a:br>
              <a:rPr sz="2800"/>
            </a:br>
            <a:r>
              <a:rPr b="0" lang="cs-CZ" sz="3600" spc="-1" strike="noStrike">
                <a:solidFill>
                  <a:srgbClr val="ff0000"/>
                </a:solidFill>
                <a:latin typeface="Impact"/>
              </a:rPr>
              <a:t>Dnes už toho máte opravdu dost!</a:t>
            </a:r>
            <a:r>
              <a:rPr b="0" lang="es-BO" sz="3600" spc="-1" strike="noStrike">
                <a:solidFill>
                  <a:srgbClr val="ff0000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7010280"/>
            <a:ext cx="66294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w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-201.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kvalitne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.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c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1992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ženo z:</a:t>
            </a:r>
            <a:r>
              <a:rPr b="0" lang="es-BO" sz="3600" spc="-1" strike="noStrike">
                <a:solidFill>
                  <a:srgbClr val="ff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00200"/>
            <a:ext cx="6858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cs-CZ" sz="3600" spc="-1" strike="noStrike">
                <a:solidFill>
                  <a:srgbClr val="ff0000"/>
                </a:solidFill>
                <a:latin typeface="Impact"/>
              </a:rPr>
              <a:t>Konec testu</a:t>
            </a:r>
            <a:r>
              <a:rPr b="0" lang="es-BO" sz="3600" spc="-1" strike="noStrike">
                <a:solidFill>
                  <a:srgbClr val="ff0000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9246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Grafická úprava pozadí: MichaelW2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0:01:13Z</dcterms:created>
  <dc:creator>m</dc:creator>
  <dc:description/>
  <dc:language>en-US</dc:language>
  <cp:lastModifiedBy>Michal WILLMANN</cp:lastModifiedBy>
  <dcterms:modified xsi:type="dcterms:W3CDTF">2007-08-15T21:56:02Z</dcterms:modified>
  <cp:revision>9</cp:revision>
  <dc:subject/>
  <dc:title>Test prepracovanosti  </dc:title>
</cp:coreProperties>
</file>