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B2A7-BBB2-4B14-A87C-1E1F9AA2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9235-D3CB-46FF-81BA-B8D7D0EC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589E-29E6-4AB7-88D2-43D0ACE2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176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464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2852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176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464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EAE-F9AC-4A9F-90FA-E1595A5E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27B98-A130-4C48-82C2-8D50105F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EA29A-997E-447E-8C15-C08F7388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5E641-79DB-482F-97D4-1E849685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679D2-A1CE-4D20-AFBC-E2A68805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C10DA-31B8-43D1-99C9-F11FD234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14440" y="2661840"/>
            <a:ext cx="5829120" cy="88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99841-3032-4FCE-885B-3B7A9CD6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58750-3FDE-4E65-9639-792F0236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E14-ADDE-4BB1-AB19-9803C78D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A134E-F18C-4D0B-8B0B-C37F19A0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FCBC5-5643-4AF4-9CCB-A37E5B7D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E5060-9A10-4C3F-BDDA-7CD6FC04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F02F3-11CC-45D4-95E2-1724DB2E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65176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7464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2852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65176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27464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3869D-8EDC-4FA1-8941-F2528F4B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A29-B456-4E43-9E23-FCFFF770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722C-ED37-4C27-9231-96C2F49E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9034-7303-4E8C-BF85-042CA8F7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2661840"/>
            <a:ext cx="5829120" cy="88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9BE-EECA-4600-A065-0AD8226C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62D-4E65-4E53-9CA1-5BDAD0EB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CCE-2BA4-4A04-8BCF-7F20F125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DC7-44E1-43A9-9798-AB732368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B086-CA8E-4535-BD71-5C421BD8E257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661840"/>
            <a:ext cx="582912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14200" y="3738600"/>
            <a:ext cx="1800" cy="404640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74CD-D4B3-40D9-8979-775FD62B8FE1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w-201.kvalitne.cz/" TargetMode="External"/><Relationship Id="rId3" Type="http://schemas.openxmlformats.org/officeDocument/2006/relationships/hyperlink" Target="http://www.mw-201.kvalitne.cz/" TargetMode="External"/><Relationship Id="rId4" Type="http://schemas.openxmlformats.org/officeDocument/2006/relationships/hyperlink" Target="http://www.mw-201.kvalitne.cz/" TargetMode="External"/><Relationship Id="rId5" Type="http://schemas.openxmlformats.org/officeDocument/2006/relationships/hyperlink" Target="http://www.mw-201.kvalitne.cz/" TargetMode="External"/><Relationship Id="rId6" Type="http://schemas.openxmlformats.org/officeDocument/2006/relationships/hyperlink" Target="http://www.mw-201.kvalitne.cz/" TargetMode="External"/><Relationship Id="rId7" Type="http://schemas.openxmlformats.org/officeDocument/2006/relationships/hyperlink" Target="http://www.mw-201.kvalitne.cz/" TargetMode="External"/><Relationship Id="rId8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ento</a:t>
            </a:r>
            <a:r>
              <a:rPr b="0" lang="es-B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BO" sz="24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elativně spolehlivě zjistí, v jaké jste psychické pohodě</a:t>
            </a:r>
            <a:r>
              <a:rPr b="0" lang="es-BO" sz="2400" spc="-1" strike="noStrike">
                <a:solidFill>
                  <a:srgbClr val="ffffff"/>
                </a:solidFill>
                <a:latin typeface="Tahoma"/>
              </a:rPr>
              <a:t>: 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8160" y="2286000"/>
            <a:ext cx="6858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a následujícím obrázku jsou</a:t>
            </a:r>
            <a:br>
              <a:rPr sz="2800"/>
            </a:b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dva naprosto stejní delfíni</a:t>
            </a:r>
            <a:r>
              <a:rPr b="1" lang="es-BO" sz="2800" spc="-1" strike="noStrike">
                <a:solidFill>
                  <a:srgbClr val="ff0000"/>
                </a:solidFill>
                <a:latin typeface="Tahoma"/>
              </a:rPr>
              <a:t>. </a:t>
            </a: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hlédněte si je v klidu, ale koncentrovaně</a:t>
            </a: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160" y="4800600"/>
            <a:ext cx="6858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Pokud mezi oběma zvířaty vidíte rozdíly</a:t>
            </a:r>
            <a:r>
              <a:rPr b="1" lang="es-BO" sz="2800" spc="-1" strike="noStrike">
                <a:solidFill>
                  <a:srgbClr val="ff0000"/>
                </a:solidFill>
                <a:latin typeface="Tahoma"/>
              </a:rPr>
              <a:t>, 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byť jen v barvě,</a:t>
            </a: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likosti</a:t>
            </a: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hybu</a:t>
            </a: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bo jiné</a:t>
            </a: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e důležité</a:t>
            </a: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KAMŽITĚ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pustit pracoviště a odpočinout si</a:t>
            </a: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800"/>
            </a:br>
            <a:br>
              <a:rPr sz="2800"/>
            </a:br>
            <a:r>
              <a:rPr b="0" lang="cs-CZ" sz="3600" spc="-1" strike="noStrike">
                <a:solidFill>
                  <a:srgbClr val="ff0000"/>
                </a:solidFill>
                <a:latin typeface="Impact"/>
              </a:rPr>
              <a:t>Dnes už toho máte opravdu dost!</a:t>
            </a:r>
            <a:r>
              <a:rPr b="0" lang="es-BO" sz="3600" spc="-1" strike="noStrike">
                <a:solidFill>
                  <a:srgbClr val="ff0000"/>
                </a:solidFill>
                <a:latin typeface="Impact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7010280"/>
            <a:ext cx="66294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www.</a:t>
            </a:r>
            <a:r>
              <a:rPr b="0" lang="cs-CZ" sz="4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mw</a:t>
            </a:r>
            <a:r>
              <a:rPr b="0" lang="cs-CZ" sz="4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-201.</a:t>
            </a:r>
            <a:r>
              <a:rPr b="0" lang="cs-CZ" sz="4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kvalitne</a:t>
            </a:r>
            <a:r>
              <a:rPr b="0" lang="cs-CZ" sz="4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.</a:t>
            </a:r>
            <a:r>
              <a:rPr b="0" lang="cs-CZ" sz="44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cz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01992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ženo z:</a:t>
            </a:r>
            <a:r>
              <a:rPr b="0" lang="es-BO" sz="3600" spc="-1" strike="noStrike">
                <a:solidFill>
                  <a:srgbClr val="ff0000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600200"/>
            <a:ext cx="6858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cs-CZ" sz="3600" spc="-1" strike="noStrike">
                <a:solidFill>
                  <a:srgbClr val="ff0000"/>
                </a:solidFill>
                <a:latin typeface="Impact"/>
              </a:rPr>
              <a:t>Konec testu</a:t>
            </a:r>
            <a:r>
              <a:rPr b="0" lang="es-BO" sz="3600" spc="-1" strike="noStrike">
                <a:solidFill>
                  <a:srgbClr val="ff0000"/>
                </a:solidFill>
                <a:latin typeface="Impact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9246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Grafická úprava pozadí: MichaelW2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0:01:13Z</dcterms:created>
  <dc:creator>m</dc:creator>
  <dc:description/>
  <dc:language>en-US</dc:language>
  <cp:lastModifiedBy>Michal WILLMANN</cp:lastModifiedBy>
  <dcterms:modified xsi:type="dcterms:W3CDTF">2007-08-15T21:56:02Z</dcterms:modified>
  <cp:revision>9</cp:revision>
  <dc:subject/>
  <dc:title>Test prepracovanosti  </dc:title>
</cp:coreProperties>
</file>