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C7D-25B8-41BF-B2E0-014F9C12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27A-21EA-4EAD-BD7B-3CB25D9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AED-89C5-4CB4-9404-508A567E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32A-E62B-47AA-B252-A7066DE3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B2F-D11C-4B03-9FE6-156776E2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8B9-36E8-4A81-AAC2-569FCF4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E81-AC3D-4237-B2D6-175EF3C6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681-5EAC-48B2-A371-EB2E10E6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7B1-9C6B-4D4A-A8A7-12D10A1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ADE-AD9D-4147-9B44-D65A054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7CC-06FC-4711-8D67-576750A9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81A-4105-4393-8F24-B6DE706A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999-9C5F-4D12-AE56-B6D4E5A57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w-201.kvalitne.cz/" TargetMode="External"/><Relationship Id="rId2" Type="http://schemas.openxmlformats.org/officeDocument/2006/relationships/hyperlink" Target="http://www.mw-201.kvalitne.cz/" TargetMode="External"/><Relationship Id="rId3" Type="http://schemas.openxmlformats.org/officeDocument/2006/relationships/hyperlink" Target="http://www.mw-201.kvalitne.cz/" TargetMode="External"/><Relationship Id="rId4" Type="http://schemas.openxmlformats.org/officeDocument/2006/relationships/hyperlink" Target="http://www.mw-201.kvalitne.cz/" TargetMode="External"/><Relationship Id="rId5" Type="http://schemas.openxmlformats.org/officeDocument/2006/relationships/hyperlink" Target="http://www.mw-201.kvalitne.cz/" TargetMode="External"/><Relationship Id="rId6" Type="http://schemas.openxmlformats.org/officeDocument/2006/relationships/hyperlink" Target="http://www.mw-201.kvalitne.cz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81200" y="566640"/>
            <a:ext cx="5783400" cy="572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666880" y="5334120"/>
            <a:ext cx="41148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4040" y="1523880"/>
            <a:ext cx="50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ečně použitelný nábyte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2895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 kterého nepotřebuj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9120" y="426708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i šrouby ani nářadí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32080" y="6237360"/>
            <a:ext cx="39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ženo z: 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mw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-201.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kvalitne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3800" y="1143000"/>
            <a:ext cx="57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O čem přemýšlel konstrukté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tohoto nábytku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80440" y="4232160"/>
            <a:ext cx="4443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irma IKEA uvádí návod k použi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7:20:28Z</dcterms:created>
  <dc:creator>J. H.</dc:creator>
  <dc:description/>
  <dc:language>en-US</dc:language>
  <cp:lastModifiedBy>Michal Willmann</cp:lastModifiedBy>
  <dcterms:modified xsi:type="dcterms:W3CDTF">2006-03-26T12:11:28Z</dcterms:modified>
  <cp:revision>5</cp:revision>
  <dc:subject/>
  <dc:title>Křeslo IKEA s návodem</dc:title>
</cp:coreProperties>
</file>