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654-202F-467D-ABDE-52125DEE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354-E545-40A1-9AC5-8A191D32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C5C-BF90-40FF-90B9-ED708C0F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CFD-97A9-4DAF-8773-01D8A828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76B-8C4A-4A99-B5BA-9F7824EE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601-2D41-4697-8CBC-0D73CD9F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141-E2FF-4FD0-914D-936DC62C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267-9F55-4F05-AB64-45DDBC99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36B-2F47-40F4-AE72-655B7FD2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543-C3BE-4F83-B864-6331BAAB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515-0C13-4C6F-96DD-3C483712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5E4-0782-4133-9D0E-61C29BE3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AAA4-4520-4DF5-8A00-09E042ECB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w-201.kvalitne.cz/" TargetMode="External"/><Relationship Id="rId2" Type="http://schemas.openxmlformats.org/officeDocument/2006/relationships/hyperlink" Target="http://www.mw-201.kvalitne.cz/" TargetMode="External"/><Relationship Id="rId3" Type="http://schemas.openxmlformats.org/officeDocument/2006/relationships/hyperlink" Target="http://www.mw-201.kvalitne.cz/" TargetMode="External"/><Relationship Id="rId4" Type="http://schemas.openxmlformats.org/officeDocument/2006/relationships/hyperlink" Target="http://www.mw-201.kvalitne.cz/" TargetMode="External"/><Relationship Id="rId5" Type="http://schemas.openxmlformats.org/officeDocument/2006/relationships/hyperlink" Target="http://www.mw-201.kvalitne.cz/" TargetMode="External"/><Relationship Id="rId6" Type="http://schemas.openxmlformats.org/officeDocument/2006/relationships/hyperlink" Target="http://www.mw-201.kvalitne.cz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81200" y="566640"/>
            <a:ext cx="5783400" cy="572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666880" y="5334120"/>
            <a:ext cx="411480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74040" y="1523880"/>
            <a:ext cx="50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ečně použitelný nábytek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28954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 kterého nepotřebuj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9120" y="4267080"/>
            <a:ext cx="38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i šrouby ani nářadí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32080" y="6237360"/>
            <a:ext cx="39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aženo z: </a:t>
            </a:r>
            <a:r>
              <a:rPr b="0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mw</a:t>
            </a:r>
            <a:r>
              <a:rPr b="0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-201.</a:t>
            </a:r>
            <a:r>
              <a:rPr b="0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kvalitne</a:t>
            </a:r>
            <a:r>
              <a:rPr b="0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3800" y="114300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O čem přemýšlel konstrukté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tohoto nábytku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80440" y="4232160"/>
            <a:ext cx="44434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Firma IKEA uvádí návod k použi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7:20:28Z</dcterms:created>
  <dc:creator>J. H.</dc:creator>
  <dc:description/>
  <dc:language>en-US</dc:language>
  <cp:lastModifiedBy>Michal Willmann</cp:lastModifiedBy>
  <dcterms:modified xsi:type="dcterms:W3CDTF">2006-03-26T12:11:28Z</dcterms:modified>
  <cp:revision>5</cp:revision>
  <dc:subject/>
  <dc:title>Křeslo IKEA s návodem</dc:title>
</cp:coreProperties>
</file>