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538-F630-45FF-BE99-B643CEAB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DFC-06A6-48E7-8EA0-18385428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B4D-A926-4F1F-B8BD-B41BFB7E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4E4-5E40-430C-8F8F-D4D133A0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D040-70C7-4C55-9774-525F6E7A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D76-8DF2-4C18-AC46-CA2F685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DFB4-4AE9-498D-9ADB-0DB1C66A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7315-6515-45D4-AE7B-BBAB6ED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B4B9-85AF-48B8-9899-C27F617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3676-6CC2-47D1-B843-BF2EDF4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278-BB34-4523-9916-81E0843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D7A-E3E7-48E7-B7CE-ED6C3F22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7AD4-F8C5-433F-8957-664DEB1C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DF7-0FCC-4643-B699-87CFBF4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6BCD-EAA8-4693-B3D6-39B0DBB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5C2D-64AF-4A62-B98B-67A042FC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398B-620B-4593-A3B9-3A1848B0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233-A34F-452D-9309-2B542F1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E57-B7B0-4DBA-BD5C-A81E387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FC8-C0A3-425A-9417-68EF463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66F-38B3-4ACD-BEF8-9BA25B33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65E-0A3C-4D88-8226-D97F696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85F-4AAA-4C34-B427-57507F6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7EF-F850-4D71-AB6A-69213D3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B51-6D53-4A1A-A9C0-9740D384B4E7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887-694C-4B5A-ABEA-32A40723D86A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w-201.kvalitne.cz/" TargetMode="External"/><Relationship Id="rId2" Type="http://schemas.openxmlformats.org/officeDocument/2006/relationships/hyperlink" Target="http://www.mw-201.kvalitne.cz/" TargetMode="External"/><Relationship Id="rId3" Type="http://schemas.openxmlformats.org/officeDocument/2006/relationships/hyperlink" Target="http://www.mw-201.kvalitne.cz/" TargetMode="External"/><Relationship Id="rId4" Type="http://schemas.openxmlformats.org/officeDocument/2006/relationships/hyperlink" Target="http://www.mw-201.kvalitne.cz/" TargetMode="External"/><Relationship Id="rId5" Type="http://schemas.openxmlformats.org/officeDocument/2006/relationships/hyperlink" Target="http://www.mw-201.kvalitne.cz/" TargetMode="External"/><Relationship Id="rId6" Type="http://schemas.openxmlformats.org/officeDocument/2006/relationships/hyperlink" Target="http://www.mw-201.kvalitne.cz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838080"/>
            <a:ext cx="83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ISOCTEUR"/>
              </a:rPr>
              <a:t>A</a:t>
            </a:r>
            <a:r>
              <a:rPr b="1" lang="cs-CZ" sz="3200" spc="-1" strike="noStrike">
                <a:solidFill>
                  <a:srgbClr val="ff6600"/>
                </a:solidFill>
                <a:latin typeface="ISOCTEUR"/>
              </a:rPr>
              <a:t> zde máte vítěze soutěže</a:t>
            </a:r>
            <a:r>
              <a:rPr b="1" lang="de-DE" sz="3200" spc="-1" strike="noStrike">
                <a:solidFill>
                  <a:srgbClr val="ff6600"/>
                </a:solidFill>
                <a:latin typeface="ISOCTE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95480"/>
            <a:ext cx="8610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6600"/>
                </a:solidFill>
                <a:latin typeface="ISOCTEUR"/>
              </a:rPr>
              <a:t>Bezpečnost při práci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822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V</a:t>
            </a:r>
            <a:r>
              <a:rPr b="1" lang="cs-CZ" sz="6000" spc="-1" strike="noStrike">
                <a:solidFill>
                  <a:srgbClr val="ff6600"/>
                </a:solidFill>
                <a:latin typeface="ISOCTEUR"/>
              </a:rPr>
              <a:t>ÍTĚZEM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s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e stává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..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29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545"/>
                </a:solidFill>
                <a:latin typeface="Impact"/>
              </a:rPr>
              <a:t>VÝHERCŮM GRATULUJEM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Staženo z 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2"/>
              </a:rPr>
              <a:t>mw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3"/>
              </a:rPr>
              <a:t>-201.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4"/>
              </a:rPr>
              <a:t>kvalitne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3e7d7c"/>
                </a:solidFill>
                <a:uFillTx/>
                <a:latin typeface="Arial Narrow"/>
                <a:hlinkClick r:id="rId6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3132000" y="3213000"/>
            <a:ext cx="3141720" cy="936720"/>
          </a:xfrm>
          <a:custGeom>
            <a:avLst/>
            <a:gdLst>
              <a:gd name="textAreaLeft" fmla="*/ 60480 w 3141720"/>
              <a:gd name="textAreaRight" fmla="*/ 3081240 w 3141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2426" h="21600">
                <a:moveTo>
                  <a:pt x="0" y="0"/>
                </a:moveTo>
                <a:lnTo>
                  <a:pt x="72426" y="0"/>
                </a:lnTo>
                <a:lnTo>
                  <a:pt x="72426" y="21600"/>
                </a:lnTo>
                <a:lnTo>
                  <a:pt x="0" y="21600"/>
                </a:lnTo>
                <a:close/>
              </a:path>
              <a:path fill="lightenLess" w="72426" h="21600">
                <a:moveTo>
                  <a:pt x="0" y="0"/>
                </a:moveTo>
                <a:lnTo>
                  <a:pt x="72426" y="0"/>
                </a:lnTo>
                <a:lnTo>
                  <a:pt x="71026" y="1400"/>
                </a:lnTo>
                <a:lnTo>
                  <a:pt x="1400" y="1400"/>
                </a:lnTo>
                <a:close/>
              </a:path>
              <a:path fill="darken" w="72426" h="21600">
                <a:moveTo>
                  <a:pt x="72426" y="0"/>
                </a:moveTo>
                <a:lnTo>
                  <a:pt x="72426" y="21600"/>
                </a:lnTo>
                <a:lnTo>
                  <a:pt x="71026" y="20200"/>
                </a:lnTo>
                <a:lnTo>
                  <a:pt x="71026" y="1400"/>
                </a:lnTo>
                <a:close/>
              </a:path>
              <a:path fill="darkenLess" w="72426" h="21600">
                <a:moveTo>
                  <a:pt x="72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26" y="20200"/>
                </a:lnTo>
                <a:close/>
              </a:path>
              <a:path fill="lighten" w="72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KONČ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720" y="29257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281160"/>
            <a:ext cx="7619760" cy="62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2720" y="29257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43200" y="2590920"/>
            <a:ext cx="50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66840" y="27612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16400" y="26668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4</a:t>
            </a:r>
            <a:r>
              <a:rPr b="0" lang="cs-CZ" sz="6000" spc="-1" strike="noStrike">
                <a:solidFill>
                  <a:srgbClr val="000000"/>
                </a:solidFill>
                <a:latin typeface="ISOCTEUR"/>
              </a:rPr>
              <a:t>. mí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>///MW-201 TECHNOLOGY/// http://mw-201.kvalitne.cz</dc:description>
  <dc:language>en-US</dc:language>
  <cp:lastModifiedBy>Michal Willmann</cp:lastModifiedBy>
  <dcterms:modified xsi:type="dcterms:W3CDTF">2006-02-12T21:30:49Z</dcterms:modified>
  <cp:revision>19</cp:revision>
  <dc:subject>Prace</dc:subject>
  <dc:title>PowerPoint-Presentation</dc:title>
</cp:coreProperties>
</file>