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ingle_Bell_Rock_-_Gary_Hoey%5B1%5D.wav" ContentType="audio/x-wav"/>
  <Override PartName="/ppt/media/Silent_Night_-_Brady_Kids.wav" ContentType="audio/x-wav"/>
  <Override PartName="/ppt/media/image1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.png" ContentType="image/png"/>
  <Override PartName="/ppt/media/evillaff.wav" ContentType="audio/x-wav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1BF-A2B1-4594-8087-51FC8690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E3A-E859-49D3-83DE-102C1B75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EA9-4609-4A0A-9EBD-A6377774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9E5-B480-4047-9923-831730FC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B12-DE76-4DC3-A33B-449FDE25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331-E674-428A-8842-3ABB322D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193-B329-46D9-8642-B17BD8B4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842-5B11-4C41-9357-676C453D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C62-B41F-4D10-B014-95BC7F1F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CF4-B254-430A-829B-DFE310BC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C52-F3D6-4F84-B130-B6BCB43C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93C5-E55C-416F-8125-51143517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71DA-608C-48C0-ADA3-CA518AD8E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audio" Target="../media/evillaff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hyperlink" Target="http://mw-201.kvalitne.cz/" TargetMode="External"/><Relationship Id="rId4" Type="http://schemas.openxmlformats.org/officeDocument/2006/relationships/hyperlink" Target="http://mw-201.kvalitne.cz/" TargetMode="External"/><Relationship Id="rId5" Type="http://schemas.openxmlformats.org/officeDocument/2006/relationships/hyperlink" Target="http://mw-201.kvalitne.cz/" TargetMode="External"/><Relationship Id="rId6" Type="http://schemas.openxmlformats.org/officeDocument/2006/relationships/hyperlink" Target="http://mw-201.kvalitne.cz/" TargetMode="External"/><Relationship Id="rId7" Type="http://schemas.openxmlformats.org/officeDocument/2006/relationships/hyperlink" Target="http://mw-201.kvalitne.cz/" TargetMode="External"/><Relationship Id="rId8" Type="http://schemas.openxmlformats.org/officeDocument/2006/relationships/hyperlink" Target="http://mw-201.kvalitne.cz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Silent_Night_-_Brady_Kid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Jingle_Bell_Rock_-_Gary_Hoey%5B1%5D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1752480" y="2666880"/>
            <a:ext cx="685800" cy="8146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14680"/>
              <a:gd name="textAreaBottom" fmla="*/ 770400 h 814680"/>
            </a:gdLst>
            <a:ahLst/>
            <a:rect l="textAreaLeft" t="textAreaTop" r="textAreaRight" b="textAreaBottom"/>
            <a:pathLst>
              <a:path w="21600" h="25657">
                <a:moveTo>
                  <a:pt x="0" y="0"/>
                </a:moveTo>
                <a:lnTo>
                  <a:pt x="21600" y="0"/>
                </a:lnTo>
                <a:lnTo>
                  <a:pt x="21600" y="25657"/>
                </a:lnTo>
                <a:lnTo>
                  <a:pt x="0" y="25657"/>
                </a:lnTo>
                <a:close/>
              </a:path>
              <a:path fill="lightenLess" w="21600" h="25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57">
                <a:moveTo>
                  <a:pt x="21600" y="0"/>
                </a:moveTo>
                <a:lnTo>
                  <a:pt x="21600" y="25657"/>
                </a:lnTo>
                <a:lnTo>
                  <a:pt x="20200" y="24257"/>
                </a:lnTo>
                <a:lnTo>
                  <a:pt x="20200" y="1400"/>
                </a:lnTo>
                <a:close/>
              </a:path>
              <a:path fill="darkenLess" w="21600" h="25657">
                <a:moveTo>
                  <a:pt x="21600" y="25657"/>
                </a:moveTo>
                <a:lnTo>
                  <a:pt x="0" y="25657"/>
                </a:lnTo>
                <a:lnTo>
                  <a:pt x="1400" y="24257"/>
                </a:lnTo>
                <a:lnTo>
                  <a:pt x="20200" y="24257"/>
                </a:lnTo>
                <a:close/>
              </a:path>
              <a:path fill="lighten" w="21600" h="25657">
                <a:moveTo>
                  <a:pt x="0" y="25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8120" y="762120"/>
            <a:ext cx="2800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General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114800" y="1905120"/>
            <a:ext cx="57168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10600" y="3124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es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0080" y="5084640"/>
            <a:ext cx="41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Lucida Handwriting"/>
              </a:rPr>
              <a:t>Přání k vánoců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7080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73680" y="2403360"/>
            <a:ext cx="339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w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číná to být su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ánoce jak mají bý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ále tam jsou míst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terá se dají zlepš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mmm…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ívej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ikni na neb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57200" y="762120"/>
            <a:ext cx="4800600" cy="3200400"/>
          </a:xfrm>
          <a:custGeom>
            <a:avLst/>
            <a:gdLst>
              <a:gd name="textAreaLeft" fmla="*/ 207360 w 4800600"/>
              <a:gd name="textAreaRight" fmla="*/ 4593240 w 4800600"/>
              <a:gd name="textAreaTop" fmla="*/ 207360 h 3200400"/>
              <a:gd name="textAreaBottom" fmla="*/ 2993040 h 3200400"/>
            </a:gdLst>
            <a:ahLst/>
            <a:rect l="textAreaLeft" t="textAreaTop" r="textAreaRight" b="textAreaBottom"/>
            <a:pathLst>
              <a:path w="32399" h="21600">
                <a:moveTo>
                  <a:pt x="0" y="0"/>
                </a:moveTo>
                <a:lnTo>
                  <a:pt x="32399" y="0"/>
                </a:lnTo>
                <a:lnTo>
                  <a:pt x="32399" y="21600"/>
                </a:lnTo>
                <a:lnTo>
                  <a:pt x="0" y="21600"/>
                </a:lnTo>
                <a:close/>
              </a:path>
              <a:path fill="lightenLess" w="32399" h="21600">
                <a:moveTo>
                  <a:pt x="0" y="0"/>
                </a:moveTo>
                <a:lnTo>
                  <a:pt x="32399" y="0"/>
                </a:lnTo>
                <a:lnTo>
                  <a:pt x="30999" y="1400"/>
                </a:lnTo>
                <a:lnTo>
                  <a:pt x="1400" y="1400"/>
                </a:lnTo>
                <a:close/>
              </a:path>
              <a:path fill="darken" w="32399" h="21600">
                <a:moveTo>
                  <a:pt x="32399" y="0"/>
                </a:moveTo>
                <a:lnTo>
                  <a:pt x="32399" y="21600"/>
                </a:lnTo>
                <a:lnTo>
                  <a:pt x="30999" y="20200"/>
                </a:lnTo>
                <a:lnTo>
                  <a:pt x="30999" y="1400"/>
                </a:lnTo>
                <a:close/>
              </a:path>
              <a:path fill="darkenLess" w="32399" h="21600">
                <a:moveTo>
                  <a:pt x="32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9" y="20200"/>
                </a:lnTo>
                <a:close/>
              </a:path>
              <a:path fill="lighten" w="32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77080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489640" y="2209680"/>
            <a:ext cx="336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NO ANO AN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ní nic lepšího než to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ysleme se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ště něc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ikni na piv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457200" y="685800"/>
            <a:ext cx="4800600" cy="2895480"/>
          </a:xfrm>
          <a:custGeom>
            <a:avLst/>
            <a:gdLst>
              <a:gd name="textAreaLeft" fmla="*/ 187560 w 4800600"/>
              <a:gd name="textAreaRight" fmla="*/ 4613040 w 4800600"/>
              <a:gd name="textAreaTop" fmla="*/ 187560 h 2895480"/>
              <a:gd name="textAreaBottom" fmla="*/ 2707920 h 2895480"/>
            </a:gdLst>
            <a:ahLst/>
            <a:rect l="textAreaLeft" t="textAreaTop" r="textAreaRight" b="textAreaBottom"/>
            <a:pathLst>
              <a:path w="35810" h="21600">
                <a:moveTo>
                  <a:pt x="0" y="0"/>
                </a:moveTo>
                <a:lnTo>
                  <a:pt x="35810" y="0"/>
                </a:lnTo>
                <a:lnTo>
                  <a:pt x="35810" y="21600"/>
                </a:lnTo>
                <a:lnTo>
                  <a:pt x="0" y="21600"/>
                </a:lnTo>
                <a:close/>
              </a:path>
              <a:path fill="lightenLess" w="35810" h="21600">
                <a:moveTo>
                  <a:pt x="0" y="0"/>
                </a:moveTo>
                <a:lnTo>
                  <a:pt x="35810" y="0"/>
                </a:lnTo>
                <a:lnTo>
                  <a:pt x="34410" y="1400"/>
                </a:lnTo>
                <a:lnTo>
                  <a:pt x="1400" y="1400"/>
                </a:lnTo>
                <a:close/>
              </a:path>
              <a:path fill="darken" w="35810" h="21600">
                <a:moveTo>
                  <a:pt x="35810" y="0"/>
                </a:moveTo>
                <a:lnTo>
                  <a:pt x="35810" y="21600"/>
                </a:lnTo>
                <a:lnTo>
                  <a:pt x="34410" y="20200"/>
                </a:lnTo>
                <a:lnTo>
                  <a:pt x="34410" y="1400"/>
                </a:lnTo>
                <a:close/>
              </a:path>
              <a:path fill="darkenLess" w="35810" h="21600">
                <a:moveTo>
                  <a:pt x="35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10" y="20200"/>
                </a:lnTo>
                <a:close/>
              </a:path>
              <a:path fill="lighten" w="35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762800" cy="5534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520" y="18900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Lucida Handwriting"/>
              </a:rPr>
              <a:t>VESELÉ VÁNOCE A ŠŤASTNÝ NOVÝ ROK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28000" y="5373720"/>
            <a:ext cx="380880" cy="60948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endshow"/>
          </p:cNvPr>
          <p:cNvSpPr/>
          <p:nvPr/>
        </p:nvSpPr>
        <p:spPr>
          <a:xfrm>
            <a:off x="7812000" y="6237360"/>
            <a:ext cx="838440" cy="357120"/>
          </a:xfrm>
          <a:custGeom>
            <a:avLst/>
            <a:gdLst>
              <a:gd name="textAreaLeft" fmla="*/ 23040 w 838440"/>
              <a:gd name="textAreaRight" fmla="*/ 815400 w 8384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0683" h="21600">
                <a:moveTo>
                  <a:pt x="0" y="0"/>
                </a:moveTo>
                <a:lnTo>
                  <a:pt x="50683" y="0"/>
                </a:lnTo>
                <a:lnTo>
                  <a:pt x="50683" y="21600"/>
                </a:lnTo>
                <a:lnTo>
                  <a:pt x="0" y="21600"/>
                </a:lnTo>
                <a:close/>
              </a:path>
              <a:path fill="lightenLess" w="50683" h="21600">
                <a:moveTo>
                  <a:pt x="0" y="0"/>
                </a:moveTo>
                <a:lnTo>
                  <a:pt x="50683" y="0"/>
                </a:lnTo>
                <a:lnTo>
                  <a:pt x="49283" y="1400"/>
                </a:lnTo>
                <a:lnTo>
                  <a:pt x="1400" y="1400"/>
                </a:lnTo>
                <a:close/>
              </a:path>
              <a:path fill="darken" w="50683" h="21600">
                <a:moveTo>
                  <a:pt x="50683" y="0"/>
                </a:moveTo>
                <a:lnTo>
                  <a:pt x="50683" y="21600"/>
                </a:lnTo>
                <a:lnTo>
                  <a:pt x="49283" y="20200"/>
                </a:lnTo>
                <a:lnTo>
                  <a:pt x="49283" y="1400"/>
                </a:lnTo>
                <a:close/>
              </a:path>
              <a:path fill="darkenLess" w="50683" h="21600">
                <a:moveTo>
                  <a:pt x="5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283" y="20200"/>
                </a:lnTo>
                <a:close/>
              </a:path>
              <a:path fill="lighten" w="5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6461280"/>
            <a:ext cx="6553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Lucida Handwriting"/>
              </a:rPr>
              <a:t>Staženo z 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Lucida Handwriting"/>
                <a:hlinkClick r:id="rId3"/>
              </a:rPr>
              <a:t>http://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Lucida Handwriting"/>
                <a:hlinkClick r:id="rId4"/>
              </a:rPr>
              <a:t>mw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Lucida Handwriting"/>
                <a:hlinkClick r:id="rId5"/>
              </a:rPr>
              <a:t>-201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Lucida Handwriting"/>
                <a:hlinkClick r:id="rId6"/>
              </a:rPr>
              <a:t>kvalitne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Lucida Handwriting"/>
                <a:hlinkClick r:id="rId7"/>
              </a:rPr>
              <a:t>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Lucida Handwriting"/>
                <a:hlinkClick r:id="rId8"/>
              </a:rPr>
              <a:t>cz</a:t>
            </a:r>
            <a:r>
              <a:rPr b="0" lang="cs-CZ" sz="2000" spc="-1" strike="noStrike">
                <a:solidFill>
                  <a:srgbClr val="ffffff"/>
                </a:solidFill>
                <a:latin typeface="Lucida Handwriting"/>
              </a:rPr>
              <a:t>. Autor: Th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30240" y="477720"/>
            <a:ext cx="201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0560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36576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jdříve klikněte na hvězdu stromečku pro více ja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1752480" y="2666880"/>
            <a:ext cx="685800" cy="8146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14680"/>
              <a:gd name="textAreaBottom" fmla="*/ 770400 h 814680"/>
            </a:gdLst>
            <a:ahLst/>
            <a:rect l="textAreaLeft" t="textAreaTop" r="textAreaRight" b="textAreaBottom"/>
            <a:pathLst>
              <a:path w="21600" h="25657">
                <a:moveTo>
                  <a:pt x="0" y="0"/>
                </a:moveTo>
                <a:lnTo>
                  <a:pt x="21600" y="0"/>
                </a:lnTo>
                <a:lnTo>
                  <a:pt x="21600" y="25657"/>
                </a:lnTo>
                <a:lnTo>
                  <a:pt x="0" y="25657"/>
                </a:lnTo>
                <a:close/>
              </a:path>
              <a:path fill="lightenLess" w="21600" h="25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57">
                <a:moveTo>
                  <a:pt x="21600" y="0"/>
                </a:moveTo>
                <a:lnTo>
                  <a:pt x="21600" y="25657"/>
                </a:lnTo>
                <a:lnTo>
                  <a:pt x="20200" y="24257"/>
                </a:lnTo>
                <a:lnTo>
                  <a:pt x="20200" y="1400"/>
                </a:lnTo>
                <a:close/>
              </a:path>
              <a:path fill="darkenLess" w="21600" h="25657">
                <a:moveTo>
                  <a:pt x="21600" y="25657"/>
                </a:moveTo>
                <a:lnTo>
                  <a:pt x="0" y="25657"/>
                </a:lnTo>
                <a:lnTo>
                  <a:pt x="1400" y="24257"/>
                </a:lnTo>
                <a:lnTo>
                  <a:pt x="20200" y="24257"/>
                </a:lnTo>
                <a:close/>
              </a:path>
              <a:path fill="lighten" w="21600" h="25657">
                <a:moveTo>
                  <a:pt x="0" y="25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7692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59480" y="3200400"/>
            <a:ext cx="321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o je vánoční atmosfér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yní rozsviťte světla 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romečk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ikněte na strom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1523880" y="3124080"/>
            <a:ext cx="1043280" cy="152424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524240"/>
              <a:gd name="textAreaBottom" fmla="*/ 1456920 h 1524240"/>
            </a:gdLst>
            <a:ahLst/>
            <a:rect l="textAreaLeft" t="textAreaTop" r="textAreaRight" b="textAreaBottom"/>
            <a:pathLst>
              <a:path w="21600" h="31554">
                <a:moveTo>
                  <a:pt x="0" y="0"/>
                </a:moveTo>
                <a:lnTo>
                  <a:pt x="21600" y="0"/>
                </a:lnTo>
                <a:lnTo>
                  <a:pt x="21600" y="31554"/>
                </a:lnTo>
                <a:lnTo>
                  <a:pt x="0" y="31554"/>
                </a:lnTo>
                <a:close/>
              </a:path>
              <a:path fill="lightenLess" w="21600" h="315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554">
                <a:moveTo>
                  <a:pt x="21600" y="0"/>
                </a:moveTo>
                <a:lnTo>
                  <a:pt x="21600" y="31554"/>
                </a:lnTo>
                <a:lnTo>
                  <a:pt x="20200" y="30154"/>
                </a:lnTo>
                <a:lnTo>
                  <a:pt x="20200" y="1400"/>
                </a:lnTo>
                <a:close/>
              </a:path>
              <a:path fill="darkenLess" w="21600" h="31554">
                <a:moveTo>
                  <a:pt x="21600" y="31554"/>
                </a:moveTo>
                <a:lnTo>
                  <a:pt x="0" y="31554"/>
                </a:lnTo>
                <a:lnTo>
                  <a:pt x="1400" y="30154"/>
                </a:lnTo>
                <a:lnTo>
                  <a:pt x="20200" y="30154"/>
                </a:lnTo>
                <a:close/>
              </a:path>
              <a:path fill="lighten" w="21600" h="31554">
                <a:moveTo>
                  <a:pt x="0" y="3155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15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7080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43640" y="2327400"/>
            <a:ext cx="359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o je náádhe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yní klikněte na komí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ak nyní je to správné te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mova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3505320" y="2286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77080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68400" y="2479680"/>
            <a:ext cx="296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émine sbor zno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ásně zpívá tu pís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.dobr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ikněte na sněhulák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by dostal klobo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609480" y="3657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77080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22840" y="2403360"/>
            <a:ext cx="352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nad sbor nezná jen tuh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dnu píseň ?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br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ůžeme si zatím přivolat sní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ikněte na ne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533520" y="685800"/>
            <a:ext cx="4724280" cy="3581280"/>
          </a:xfrm>
          <a:custGeom>
            <a:avLst/>
            <a:gdLst>
              <a:gd name="textAreaLeft" fmla="*/ 231840 w 4724280"/>
              <a:gd name="textAreaRight" fmla="*/ 4492440 w 4724280"/>
              <a:gd name="textAreaTop" fmla="*/ 231840 h 3581280"/>
              <a:gd name="textAreaBottom" fmla="*/ 3349440 h 3581280"/>
            </a:gdLst>
            <a:ahLst/>
            <a:rect l="textAreaLeft" t="textAreaTop" r="textAreaRight" b="textAreaBottom"/>
            <a:pathLst>
              <a:path w="28493" h="21600">
                <a:moveTo>
                  <a:pt x="0" y="0"/>
                </a:moveTo>
                <a:lnTo>
                  <a:pt x="28493" y="0"/>
                </a:lnTo>
                <a:lnTo>
                  <a:pt x="28493" y="21600"/>
                </a:lnTo>
                <a:lnTo>
                  <a:pt x="0" y="21600"/>
                </a:lnTo>
                <a:close/>
              </a:path>
              <a:path fill="lightenLess" w="28493" h="21600">
                <a:moveTo>
                  <a:pt x="0" y="0"/>
                </a:moveTo>
                <a:lnTo>
                  <a:pt x="28493" y="0"/>
                </a:lnTo>
                <a:lnTo>
                  <a:pt x="27093" y="1400"/>
                </a:lnTo>
                <a:lnTo>
                  <a:pt x="1400" y="1400"/>
                </a:lnTo>
                <a:close/>
              </a:path>
              <a:path fill="darken" w="28493" h="21600">
                <a:moveTo>
                  <a:pt x="28493" y="0"/>
                </a:moveTo>
                <a:lnTo>
                  <a:pt x="28493" y="21600"/>
                </a:lnTo>
                <a:lnTo>
                  <a:pt x="27093" y="20200"/>
                </a:lnTo>
                <a:lnTo>
                  <a:pt x="27093" y="1400"/>
                </a:lnTo>
                <a:close/>
              </a:path>
              <a:path fill="darkenLess" w="28493" h="21600">
                <a:moveTo>
                  <a:pt x="2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93" y="20200"/>
                </a:lnTo>
                <a:close/>
              </a:path>
              <a:path fill="lighten" w="2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7080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29440" y="2563920"/>
            <a:ext cx="34635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Nechci tu píseň znovu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vidíme jak se jich zbav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hci opravdový chorá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ěkoho kdo umí zpív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ikni na sb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.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1981080" y="5105520"/>
            <a:ext cx="1752840" cy="1042920"/>
          </a:xfrm>
          <a:custGeom>
            <a:avLst/>
            <a:gdLst>
              <a:gd name="textAreaLeft" fmla="*/ 67320 w 1752840"/>
              <a:gd name="textAreaRight" fmla="*/ 1685520 w 17528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6298" h="21600">
                <a:moveTo>
                  <a:pt x="0" y="0"/>
                </a:moveTo>
                <a:lnTo>
                  <a:pt x="36298" y="0"/>
                </a:lnTo>
                <a:lnTo>
                  <a:pt x="36298" y="21600"/>
                </a:lnTo>
                <a:lnTo>
                  <a:pt x="0" y="21600"/>
                </a:lnTo>
                <a:close/>
              </a:path>
              <a:path fill="lightenLess" w="36298" h="21600">
                <a:moveTo>
                  <a:pt x="0" y="0"/>
                </a:moveTo>
                <a:lnTo>
                  <a:pt x="36298" y="0"/>
                </a:lnTo>
                <a:lnTo>
                  <a:pt x="34898" y="1400"/>
                </a:lnTo>
                <a:lnTo>
                  <a:pt x="1400" y="1400"/>
                </a:lnTo>
                <a:close/>
              </a:path>
              <a:path fill="darken" w="36298" h="21600">
                <a:moveTo>
                  <a:pt x="36298" y="0"/>
                </a:moveTo>
                <a:lnTo>
                  <a:pt x="36298" y="21600"/>
                </a:lnTo>
                <a:lnTo>
                  <a:pt x="34898" y="20200"/>
                </a:lnTo>
                <a:lnTo>
                  <a:pt x="34898" y="1400"/>
                </a:lnTo>
                <a:close/>
              </a:path>
              <a:path fill="darkenLess" w="36298" h="21600">
                <a:moveTo>
                  <a:pt x="3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98" y="20200"/>
                </a:lnTo>
                <a:close/>
              </a:path>
              <a:path fill="lighten" w="3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77080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467320" y="2362320"/>
            <a:ext cx="375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  AN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yní je to o mno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epš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le myslím, ž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ůžeme ještě vylepš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bavme se toho sněhulák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nám líto – klikni na ně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609480" y="3581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770800" y="304920"/>
            <a:ext cx="32364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Lucida Handwriting"/>
              </a:rPr>
              <a:t>Merry X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73920" y="11286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Handwriting"/>
              </a:rPr>
              <a:t>From Th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64160" y="2895480"/>
            <a:ext cx="3668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h AN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yní je to oprav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 mnoho lepš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eptám se na něc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o je vlastě dobrého 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ánočním stromk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áme tam něco co chc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idě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ikni na strome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1523880" y="2666880"/>
            <a:ext cx="1043280" cy="188136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881360"/>
              <a:gd name="textAreaBottom" fmla="*/ 1814040 h 1881360"/>
            </a:gdLst>
            <a:ahLst/>
            <a:rect l="textAreaLeft" t="textAreaTop" r="textAreaRight" b="textAreaBottom"/>
            <a:pathLst>
              <a:path w="21600" h="38946">
                <a:moveTo>
                  <a:pt x="0" y="0"/>
                </a:moveTo>
                <a:lnTo>
                  <a:pt x="21600" y="0"/>
                </a:lnTo>
                <a:lnTo>
                  <a:pt x="21600" y="38946"/>
                </a:lnTo>
                <a:lnTo>
                  <a:pt x="0" y="38946"/>
                </a:lnTo>
                <a:close/>
              </a:path>
              <a:path fill="lightenLess" w="21600" h="389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946">
                <a:moveTo>
                  <a:pt x="21600" y="0"/>
                </a:moveTo>
                <a:lnTo>
                  <a:pt x="21600" y="38946"/>
                </a:lnTo>
                <a:lnTo>
                  <a:pt x="20200" y="37546"/>
                </a:lnTo>
                <a:lnTo>
                  <a:pt x="20200" y="1400"/>
                </a:lnTo>
                <a:close/>
              </a:path>
              <a:path fill="darkenLess" w="21600" h="38946">
                <a:moveTo>
                  <a:pt x="21600" y="38946"/>
                </a:moveTo>
                <a:lnTo>
                  <a:pt x="0" y="38946"/>
                </a:lnTo>
                <a:lnTo>
                  <a:pt x="1400" y="37546"/>
                </a:lnTo>
                <a:lnTo>
                  <a:pt x="20200" y="37546"/>
                </a:lnTo>
                <a:close/>
              </a:path>
              <a:path fill="lighten" w="21600" h="38946">
                <a:moveTo>
                  <a:pt x="0" y="38946"/>
                </a:moveTo>
                <a:lnTo>
                  <a:pt x="0" y="0"/>
                </a:lnTo>
                <a:lnTo>
                  <a:pt x="1400" y="1400"/>
                </a:lnTo>
                <a:lnTo>
                  <a:pt x="1400" y="3754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5:53:22Z</dcterms:created>
  <dc:creator>The General</dc:creator>
  <dc:description/>
  <dc:language>en-US</dc:language>
  <cp:lastModifiedBy>Michal Willmann</cp:lastModifiedBy>
  <dcterms:modified xsi:type="dcterms:W3CDTF">2005-12-20T18:09:43Z</dcterms:modified>
  <cp:revision>8</cp:revision>
  <dc:subject/>
  <dc:title>Prani k Vanocum MW-201</dc:title>
</cp:coreProperties>
</file>